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F66-4197-4139-89A8-D2C3AD70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38C-B000-4716-A287-9040CD82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5CE-708A-4D87-AD52-ADD94EC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5A4-D90A-4EF7-86AD-86E15DE5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E670-1D59-4E65-825E-8081B699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B5F4-53C4-4836-8BC2-381C529B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F79E-D6C7-4C0F-9BD7-C0BD17BA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840-3033-494B-8AAE-077E8022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D8C2-64FE-4F57-9868-64E3AC59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CF1A-0BC9-4BE5-9FA5-316F293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9DB-0831-46EB-B2CC-5C6DE40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EED-07A1-4509-BB71-5543160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63E9-6756-472D-B19C-3164436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40FC-50C2-4A13-8201-187D44A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5A6E-F2C9-4405-B1D9-B4358D3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876-EE3B-4471-A582-ACBC90A7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A92-3F4D-4882-9F17-B4D968D7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DA8-483E-4754-9239-62A46A9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E08-9FDB-418B-AAE7-EAC1F76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32D-AF25-4312-9769-56F1BC6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532-1248-40F6-97DE-57CC9536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7A0-D34B-4756-B3C0-4FA683B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979-F91E-42F1-963D-3F06AA41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AFA-E4FA-4F53-8E07-3809CB7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72F-2222-460D-BB1A-3304E439F9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5AC1-ECA0-4C1D-8639-7021726E72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Subject and Predicates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o or what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what the subject is or d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2362320" y="2133720"/>
            <a:ext cx="24620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dy and her dog run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ff"/>
                </a:solidFill>
                <a:uFillTx/>
                <a:latin typeface="Arial"/>
              </a:rPr>
              <a:t>Judy and her dog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is the subject and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Arial"/>
              </a:rPr>
              <a:t>run on the beach every morning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predic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5638680" y="4724280"/>
            <a:ext cx="1462320" cy="180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spilled popcorn on the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ubject and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spilled popcorn on the flo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predic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My little br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His Uncle Bo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Those stu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Our babysi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tudents carrie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broke his fin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asked for dire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tudents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carried boo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arrived 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Laura McDow</cp:lastModifiedBy>
  <dcterms:modified xsi:type="dcterms:W3CDTF">2010-08-26T00:24:53Z</dcterms:modified>
  <cp:revision>14</cp:revision>
  <dc:subject/>
  <dc:title>Subjects &amp; Predicates</dc:title>
</cp:coreProperties>
</file>